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43.jpeg" ContentType="image/jpeg"/>
  <Override PartName="/ppt/media/image8.jpeg" ContentType="image/jpeg"/>
  <Override PartName="/ppt/media/image39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2.png" ContentType="image/png"/>
  <Override PartName="/ppt/media/image65.jpeg" ContentType="image/jpeg"/>
  <Override PartName="/ppt/media/image49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22.jpeg" ContentType="image/jpeg"/>
  <Override PartName="/ppt/media/image15.jpeg" ContentType="image/jpeg"/>
  <Override PartName="/ppt/media/image17.jpeg" ContentType="image/jpeg"/>
  <Override PartName="/ppt/media/image25.png" ContentType="image/png"/>
  <Override PartName="/ppt/media/image19.jpeg" ContentType="image/jpeg"/>
  <Override PartName="/ppt/media/image10.jpeg" ContentType="image/jpeg"/>
  <Override PartName="/ppt/media/image14.png" ContentType="image/png"/>
  <Override PartName="/ppt/media/image73.jpeg" ContentType="image/jpeg"/>
  <Override PartName="/ppt/media/image68.jpeg" ContentType="image/jpeg"/>
  <Override PartName="/ppt/media/image70.jpeg" ContentType="image/jpeg"/>
  <Override PartName="/ppt/media/image21.jpeg" ContentType="image/jpeg"/>
  <Override PartName="/ppt/media/image32.png" ContentType="image/png"/>
  <Override PartName="/ppt/media/image18.jpeg" ContentType="image/jpeg"/>
  <Override PartName="/ppt/media/image62.jpeg" ContentType="image/jpeg"/>
  <Override PartName="/ppt/media/image5.jpeg" ContentType="image/jpeg"/>
  <Override PartName="/ppt/media/image69.png" ContentType="image/png"/>
  <Override PartName="/ppt/media/image67.jpeg" ContentType="image/jpeg"/>
  <Override PartName="/ppt/media/image66.jpeg" ContentType="image/jpeg"/>
  <Override PartName="/ppt/media/image33.jpeg" ContentType="image/jpeg"/>
  <Override PartName="/ppt/media/image27.png" ContentType="image/png"/>
  <Override PartName="/ppt/media/image64.jpeg" ContentType="image/jpeg"/>
  <Override PartName="/ppt/media/image63.jpeg" ContentType="image/jpeg"/>
  <Override PartName="/ppt/media/image71.png" ContentType="image/png"/>
  <Override PartName="/ppt/media/image6.jpeg" ContentType="image/jpeg"/>
  <Override PartName="/ppt/media/image60.jpeg" ContentType="image/jpeg"/>
  <Override PartName="/ppt/media/image3.jpeg" ContentType="image/jpeg"/>
  <Override PartName="/ppt/media/image20.png" ContentType="image/png"/>
  <Override PartName="/ppt/media/image37.jpeg" ContentType="image/jpeg"/>
  <Override PartName="/ppt/media/image24.jpeg" ContentType="image/jpeg"/>
  <Override PartName="/ppt/media/image4.jpeg" ContentType="image/jpeg"/>
  <Override PartName="/ppt/media/image31.wmf" ContentType="image/x-wmf"/>
  <Override PartName="/ppt/media/image61.jpeg" ContentType="image/jpeg"/>
  <Override PartName="/ppt/media/image26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16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52.jpeg" ContentType="image/jpeg"/>
  <Override PartName="/ppt/media/image13.jpeg" ContentType="image/jpeg"/>
  <Override PartName="/ppt/media/image40.jpeg" ContentType="image/jpeg"/>
  <Override PartName="/ppt/media/image9.gif" ContentType="image/gif"/>
  <Override PartName="/ppt/media/image30.jpeg" ContentType="image/jpeg"/>
  <Override PartName="/ppt/media/image34.jpeg" ContentType="image/jpeg"/>
  <Override PartName="/ppt/media/image4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45E4-CCD1-45E5-8D43-B7EE8167C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F3BA-5FA7-4719-8640-915CC68E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7DC6-62C7-443F-9EE3-3DDB59999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8C6A-5138-45EC-B969-7EEF5920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3AF9-BCC4-4245-BC90-10E332BC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3D9-3625-45B3-83D5-02532D66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16CD-C5E0-42C9-86CE-107568C9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C95C-AB25-49FF-9D33-AD386604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76F-BAA3-40F4-B1B5-B475B8C7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C74E-9E6C-4942-82FF-C00E5118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412-ABC2-480F-B559-179E8607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7D51-4EF1-43BD-90F2-C63EC978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F0AF-C2DA-4EE9-A975-4BC926426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image" Target="../media/image64.jpeg"/><Relationship Id="rId7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5/Dredging_technique_schematic.png" TargetMode="External"/><Relationship Id="rId2" Type="http://schemas.openxmlformats.org/officeDocument/2006/relationships/image" Target="../media/image69.png"/><Relationship Id="rId3" Type="http://schemas.openxmlformats.org/officeDocument/2006/relationships/hyperlink" Target="http://upload.wikimedia.org/wikipedia/commons/6/65/Dredging_technique_schematic.png" TargetMode="External"/><Relationship Id="rId4" Type="http://schemas.openxmlformats.org/officeDocument/2006/relationships/image" Target="../media/image69.pn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F72-F5AA-4C03-9466-6FC11B9A6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теријум: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нспортне маш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подизање и преношење терета (</a:t>
            </a:r>
            <a:r>
              <a:rPr b="0" i="1" lang="sr-CS" sz="1600" spc="-1" strike="noStrike">
                <a:solidFill>
                  <a:srgbClr val="000000"/>
                </a:solidFill>
                <a:latin typeface="Arial"/>
              </a:rPr>
              <a:t>Дизалиц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ископ, транспорт и сабијање т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производњу агрегата (камен-дробљенац или шљунак-који се добија механичким разарањем природних стена или вади из речних нано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производњу и уградњу бе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производњу и уградњу асфалтног бе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еханизовани ал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Критеријум: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Начин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са цикличним ра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са непрекидним ра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теријум: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тепен универзал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ниверзал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лууниверзал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ецијализов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теријум: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тепен покретљив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кретне (мобил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покретне (стационар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BE32-009A-4AF8-8AFE-27C817BF4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Багер са повлачном кашиком (“драглајн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Dragline_excavator"/>
          <p:cNvPicPr/>
          <p:nvPr/>
        </p:nvPicPr>
        <p:blipFill>
          <a:blip r:embed="rId1"/>
          <a:stretch/>
        </p:blipFill>
        <p:spPr>
          <a:xfrm>
            <a:off x="684360" y="1916280"/>
            <a:ext cx="4103640" cy="3892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drag3"/>
          <p:cNvPicPr/>
          <p:nvPr/>
        </p:nvPicPr>
        <p:blipFill>
          <a:blip r:embed="rId2"/>
          <a:srcRect l="5576" t="15229" r="21746" b="0"/>
          <a:stretch/>
        </p:blipFill>
        <p:spPr>
          <a:xfrm>
            <a:off x="5148360" y="1341360"/>
            <a:ext cx="2952720" cy="256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rag6"/>
          <p:cNvPicPr/>
          <p:nvPr/>
        </p:nvPicPr>
        <p:blipFill>
          <a:blip r:embed="rId3"/>
          <a:srcRect l="38569" t="4611" r="21472" b="32065"/>
          <a:stretch/>
        </p:blipFill>
        <p:spPr>
          <a:xfrm>
            <a:off x="5867280" y="4149720"/>
            <a:ext cx="1901880" cy="2232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5296320" y="981000"/>
            <a:ext cx="245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раглајн у РБ Колуб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6F7B-EA0A-4421-9A8C-485C72B63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BucketwithTruck"/>
          <p:cNvPicPr/>
          <p:nvPr/>
        </p:nvPicPr>
        <p:blipFill>
          <a:blip r:embed="rId1"/>
          <a:stretch/>
        </p:blipFill>
        <p:spPr>
          <a:xfrm>
            <a:off x="611280" y="1989000"/>
            <a:ext cx="3959280" cy="26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muskiebucket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4716360" y="1989000"/>
            <a:ext cx="4032360" cy="26784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8"/>
          <p:cNvSpPr/>
          <p:nvPr/>
        </p:nvSpPr>
        <p:spPr>
          <a:xfrm>
            <a:off x="2777760" y="1413000"/>
            <a:ext cx="35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ашика највећег багера драглај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C466-9F0F-4D7E-8184-0D23EE5B1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а непрекидним ра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вокопачи ведрич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и ведрич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торни ровокоп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торни баг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цевополаг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trencher"/>
          <p:cNvPicPr/>
          <p:nvPr/>
        </p:nvPicPr>
        <p:blipFill>
          <a:blip r:embed="rId1"/>
          <a:stretch/>
        </p:blipFill>
        <p:spPr>
          <a:xfrm>
            <a:off x="611280" y="2997360"/>
            <a:ext cx="2520720" cy="1861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rv2"/>
          <p:cNvPicPr/>
          <p:nvPr/>
        </p:nvPicPr>
        <p:blipFill>
          <a:blip r:embed="rId2"/>
          <a:srcRect l="0" t="9056" r="0" b="12075"/>
          <a:stretch/>
        </p:blipFill>
        <p:spPr>
          <a:xfrm>
            <a:off x="3419640" y="2997360"/>
            <a:ext cx="1506240" cy="187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vedricar1"/>
          <p:cNvPicPr/>
          <p:nvPr/>
        </p:nvPicPr>
        <p:blipFill>
          <a:blip r:embed="rId3"/>
          <a:srcRect l="0" t="9465" r="0" b="0"/>
          <a:stretch/>
        </p:blipFill>
        <p:spPr>
          <a:xfrm>
            <a:off x="5580000" y="3009960"/>
            <a:ext cx="2664000" cy="1793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911240" y="515772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вокопач ведрич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1332000" y="48690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х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3924360" y="486900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а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6231240" y="494172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 ведрич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46BE-4D78-413C-9A52-7AC24EFE3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rr1"/>
          <p:cNvPicPr/>
          <p:nvPr/>
        </p:nvPicPr>
        <p:blipFill>
          <a:blip r:embed="rId1"/>
          <a:srcRect l="0" t="11486" r="0" b="2719"/>
          <a:stretch/>
        </p:blipFill>
        <p:spPr>
          <a:xfrm>
            <a:off x="539640" y="2168640"/>
            <a:ext cx="3600720" cy="270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SchRs1760-0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4427640" y="2205000"/>
            <a:ext cx="4392360" cy="260676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1262880" y="4941720"/>
            <a:ext cx="200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торни ровокоп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937760" y="4941720"/>
            <a:ext cx="345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торни багер са једним јарбо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106B-8366-48CE-B265-A355C36D6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трони багер са два јарбо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opencast_mine_C-6110-15-06_11_2003"/>
          <p:cNvPicPr/>
          <p:nvPr/>
        </p:nvPicPr>
        <p:blipFill>
          <a:blip r:embed="rId1"/>
          <a:stretch/>
        </p:blipFill>
        <p:spPr>
          <a:xfrm>
            <a:off x="1619280" y="1268280"/>
            <a:ext cx="611496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FC4B-C7EF-419D-8F75-1005C49D0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2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is what happens when things get lost and they turn up in the most unexpected pla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SBPUZZLD"/>
          <p:cNvPicPr/>
          <p:nvPr/>
        </p:nvPicPr>
        <p:blipFill>
          <a:blip r:embed="rId1"/>
          <a:stretch/>
        </p:blipFill>
        <p:spPr>
          <a:xfrm>
            <a:off x="3995640" y="1773360"/>
            <a:ext cx="1042920" cy="23000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828360" y="184464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Where is my Doz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0658-FF62-4985-B47E-8E3B6CB7F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31413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You have a big Tonka Toy ca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800" spc="-1" strike="noStrike">
                <a:solidFill>
                  <a:srgbClr val="ff0000"/>
                </a:solidFill>
                <a:latin typeface="Arial"/>
              </a:rPr>
              <a:t>The Ultimate Earth Mov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404000" y="2133720"/>
            <a:ext cx="26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rst of all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27E0-AB96-47E2-8E9D-FC27D56B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904040" y="1627200"/>
            <a:ext cx="5228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Ultimate Earth Mover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is is the largest earth m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n the world....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uilt by the German company, Krupp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and seen here crossing a federal high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n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en route to its dest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(an open-pit coal mine)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t is cheaper to move the thing like th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than to construct or reassemble onsit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allegra[1].mid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8A60-AE96-4408-94CC-ECFF655A9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1"/>
          <p:cNvPicPr/>
          <p:nvPr/>
        </p:nvPicPr>
        <p:blipFill>
          <a:blip r:embed="rId1"/>
          <a:stretch/>
        </p:blipFill>
        <p:spPr>
          <a:xfrm>
            <a:off x="1258920" y="1197000"/>
            <a:ext cx="665964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94365-8E3E-4C72-85DF-FDB933A9B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2"/>
          <p:cNvPicPr/>
          <p:nvPr/>
        </p:nvPicPr>
        <p:blipFill>
          <a:blip r:embed="rId1"/>
          <a:stretch/>
        </p:blipFill>
        <p:spPr>
          <a:xfrm>
            <a:off x="1332000" y="1268280"/>
            <a:ext cx="637200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95A5-C422-4CC2-88C2-BF182F880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РАНСПОРТНЕ МАШ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Транспорт људи и материј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ваздушн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воден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цевн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шинск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друмск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D2D3-67DB-461A-8BE9-6BA680219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3"/>
          <p:cNvPicPr/>
          <p:nvPr/>
        </p:nvPicPr>
        <p:blipFill>
          <a:blip r:embed="rId1"/>
          <a:stretch/>
        </p:blipFill>
        <p:spPr>
          <a:xfrm>
            <a:off x="1403280" y="1125360"/>
            <a:ext cx="63723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162E-0F96-40A0-B705-C4F4FF82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5"/>
          <p:cNvPicPr/>
          <p:nvPr/>
        </p:nvPicPr>
        <p:blipFill>
          <a:blip r:embed="rId1"/>
          <a:stretch/>
        </p:blipFill>
        <p:spPr>
          <a:xfrm>
            <a:off x="1403280" y="1125360"/>
            <a:ext cx="615636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ACE5-B110-46FB-A7CF-F23DC0F35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1547640" y="1135440"/>
            <a:ext cx="58327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Specification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The mover stands  311 feet tall and 705 feet long. 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It weighs over 45,500 tons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Cost $100 million to build 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Took 5 years to design and manufacture 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5 years to assemble.  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Requires 5 people to operate it. 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The Bucket Wheel is over 70 feet in diameter with 20 bucke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each of which can hold over 530 cubic feet of material.  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A 6-foot man can stand up inside one of the buckets.  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It moves on 12 crawl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(each is 12 feet wide, 8' high and 46 feet long). 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There are 8 crawlers in front and 4 in back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It has a maximum speed of 1 mile in 3 hours (1/3 mile/hour). </a:t>
            </a:r>
            <a:br>
              <a:rPr sz="1600"/>
            </a:b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~ It can remove over 76,455 cubic meters each da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404e4"/>
                </a:solidFill>
                <a:latin typeface="Arial"/>
              </a:rPr>
              <a:t>(100,000 large dump trucks at 40yds. each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CBEC-8C31-47EF-BA1C-8DFF22CBB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1403280" y="1197000"/>
            <a:ext cx="6372360" cy="477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F298-8C55-42D1-9C4B-8825AE98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PUZZLD2"/>
          <p:cNvPicPr/>
          <p:nvPr/>
        </p:nvPicPr>
        <p:blipFill>
          <a:blip r:embed="rId1"/>
          <a:stretch/>
        </p:blipFill>
        <p:spPr>
          <a:xfrm>
            <a:off x="5003640" y="2637000"/>
            <a:ext cx="1038240" cy="2295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1335240" y="1916280"/>
            <a:ext cx="28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w where is that Doze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A0B6-06C7-4A33-9570-329B2BD3E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SURPZD"/>
          <p:cNvPicPr/>
          <p:nvPr/>
        </p:nvPicPr>
        <p:blipFill>
          <a:blip r:embed="rId1"/>
          <a:stretch/>
        </p:blipFill>
        <p:spPr>
          <a:xfrm>
            <a:off x="3851280" y="1844640"/>
            <a:ext cx="2684520" cy="3960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4"/>
          <p:cNvSpPr/>
          <p:nvPr/>
        </p:nvSpPr>
        <p:spPr>
          <a:xfrm>
            <a:off x="1692000" y="1700280"/>
            <a:ext cx="235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hhh  … There i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5FED-9C2E-4D3F-80BB-F000B0CE7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24000" y="1052640"/>
            <a:ext cx="77770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At the top of that big wheel 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SBPOINT4"/>
          <p:cNvPicPr/>
          <p:nvPr/>
        </p:nvPicPr>
        <p:blipFill>
          <a:blip r:embed="rId1"/>
          <a:stretch/>
        </p:blipFill>
        <p:spPr>
          <a:xfrm>
            <a:off x="5148360" y="3068640"/>
            <a:ext cx="1020600" cy="287964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286F-07F7-4837-8E43-82B1B8E4A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692360" y="1125360"/>
            <a:ext cx="5688000" cy="42627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ADB0-1222-4B99-B5D3-2F15BCBAF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619280" y="1268280"/>
            <a:ext cx="5975280" cy="44769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6BB9-0ADA-40A5-B555-B0A0B027C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Arial"/>
              </a:rPr>
              <a:t>ГРАЂЕВИНСКЕ МАШИНЕ – УВОДНО ПРЕДАВ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1619280" y="1125360"/>
            <a:ext cx="5796000" cy="434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D25E-4D33-44E2-A0C2-571770F14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АЗДУШН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а брз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ћност транспорта до неприступачних мес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ла носив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сока цена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нспорт и монтажа објеката на неприступачним местима применом хеликопт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attaching"/>
          <p:cNvPicPr/>
          <p:nvPr/>
        </p:nvPicPr>
        <p:blipFill>
          <a:blip r:embed="rId1">
            <a:lum bright="-10000"/>
          </a:blip>
          <a:srcRect l="14241" t="0" r="4014" b="2593"/>
          <a:stretch/>
        </p:blipFill>
        <p:spPr>
          <a:xfrm>
            <a:off x="826920" y="3716280"/>
            <a:ext cx="2695680" cy="239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flying"/>
          <p:cNvPicPr/>
          <p:nvPr/>
        </p:nvPicPr>
        <p:blipFill>
          <a:blip r:embed="rId2">
            <a:lum bright="-10000"/>
          </a:blip>
          <a:srcRect l="14201" t="2552" r="28225" b="0"/>
          <a:stretch/>
        </p:blipFill>
        <p:spPr>
          <a:xfrm>
            <a:off x="3995640" y="3716280"/>
            <a:ext cx="1057320" cy="240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setting"/>
          <p:cNvPicPr/>
          <p:nvPr/>
        </p:nvPicPr>
        <p:blipFill>
          <a:blip r:embed="rId3">
            <a:lum bright="-10000"/>
          </a:blip>
          <a:srcRect l="17934" t="2594" r="24685" b="0"/>
          <a:stretch/>
        </p:blipFill>
        <p:spPr>
          <a:xfrm>
            <a:off x="5508720" y="3716280"/>
            <a:ext cx="1000080" cy="23907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placing"/>
          <p:cNvPicPr/>
          <p:nvPr/>
        </p:nvPicPr>
        <p:blipFill>
          <a:blip r:embed="rId4">
            <a:lum bright="-10000"/>
          </a:blip>
          <a:srcRect l="19273" t="0" r="6891" b="0"/>
          <a:stretch/>
        </p:blipFill>
        <p:spPr>
          <a:xfrm>
            <a:off x="7020000" y="3716280"/>
            <a:ext cx="1076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EA706-8FEA-4C75-A80D-D6372D340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1908000" y="1268280"/>
            <a:ext cx="5293080" cy="39672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ED38-6469-4984-8C2C-F2D325079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3"/>
          <p:cNvPicPr/>
          <p:nvPr/>
        </p:nvPicPr>
        <p:blipFill>
          <a:blip r:embed="rId1"/>
          <a:stretch/>
        </p:blipFill>
        <p:spPr>
          <a:xfrm>
            <a:off x="1619280" y="1341360"/>
            <a:ext cx="5651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48D31-8ADC-450A-9AD3-C0FDD6F41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ископ земљишта под во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и са цикличним ра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прекидним ра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barza1"/>
          <p:cNvPicPr/>
          <p:nvPr/>
        </p:nvPicPr>
        <p:blipFill>
          <a:blip r:embed="rId1"/>
          <a:srcRect l="0" t="10157" r="0" b="3990"/>
          <a:stretch/>
        </p:blipFill>
        <p:spPr>
          <a:xfrm>
            <a:off x="1547640" y="1773360"/>
            <a:ext cx="2232360" cy="1841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plovnivedricar1"/>
          <p:cNvPicPr/>
          <p:nvPr/>
        </p:nvPicPr>
        <p:blipFill>
          <a:blip r:embed="rId2"/>
          <a:stretch/>
        </p:blipFill>
        <p:spPr>
          <a:xfrm>
            <a:off x="5435640" y="1660680"/>
            <a:ext cx="2376360" cy="18428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4286160" cy="17146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240360" cy="20257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9"/>
          <p:cNvSpPr/>
          <p:nvPr/>
        </p:nvSpPr>
        <p:spPr>
          <a:xfrm>
            <a:off x="1122480" y="3716280"/>
            <a:ext cx="293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 са дубинском каш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5799600" y="3573360"/>
            <a:ext cx="167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 ведрич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3567960" y="6165720"/>
            <a:ext cx="196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фулерни баг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FCC0A-9AFC-4A7F-8C8D-E1F0C4A6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АШИНЕ ЗА ИСКОП, ТРАНСПОРТ И РАВНАЊЕ (ПЛАНИРАЊЕ)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 Ископ земљишта у слојевима дебљине до ≈ 2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уз истовремен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нспорт и разастирање са планир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з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креп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ејд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Доз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коп, транспорт, разастирање и планирање земљиш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сипање ровова и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чишћење земљишта од камења, пањева, отпадног грађевинског материј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ављење наси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коп канала већи димен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улдоз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нглдоз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илтдозер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dozer1"/>
          <p:cNvPicPr/>
          <p:nvPr/>
        </p:nvPicPr>
        <p:blipFill>
          <a:blip r:embed="rId1"/>
          <a:srcRect l="6710" t="6780" r="7031" b="8360"/>
          <a:stretch/>
        </p:blipFill>
        <p:spPr>
          <a:xfrm>
            <a:off x="4716360" y="4508640"/>
            <a:ext cx="1943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AD10-35DD-42D8-907F-C0D8201ADB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креп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коп земљишта (д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тегорије) у слојевима, транспорт до 5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m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 разастирање у слојевима одређене дебљ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коп канала и ру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кидање јалов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Грејд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skreper2"/>
          <p:cNvPicPr/>
          <p:nvPr/>
        </p:nvPicPr>
        <p:blipFill>
          <a:blip r:embed="rId1"/>
          <a:srcRect l="0" t="17122" r="0" b="16773"/>
          <a:stretch/>
        </p:blipFill>
        <p:spPr>
          <a:xfrm>
            <a:off x="755640" y="2637000"/>
            <a:ext cx="2303640" cy="1535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"/>
          <p:cNvPicPr/>
          <p:nvPr/>
        </p:nvPicPr>
        <p:blipFill>
          <a:blip r:embed="rId2"/>
          <a:srcRect l="0" t="17611" r="0" b="19388"/>
          <a:stretch/>
        </p:blipFill>
        <p:spPr>
          <a:xfrm>
            <a:off x="5508720" y="2565360"/>
            <a:ext cx="2663640" cy="1677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"/>
          <p:cNvPicPr/>
          <p:nvPr/>
        </p:nvPicPr>
        <p:blipFill>
          <a:blip r:embed="rId3"/>
          <a:stretch/>
        </p:blipFill>
        <p:spPr>
          <a:xfrm>
            <a:off x="3419640" y="2563920"/>
            <a:ext cx="1657080" cy="1657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grejder1"/>
          <p:cNvPicPr/>
          <p:nvPr/>
        </p:nvPicPr>
        <p:blipFill>
          <a:blip r:embed="rId4"/>
          <a:stretch/>
        </p:blipFill>
        <p:spPr>
          <a:xfrm>
            <a:off x="5219640" y="4653000"/>
            <a:ext cx="1381320" cy="13809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9"/>
          <p:cNvSpPr/>
          <p:nvPr/>
        </p:nvSpPr>
        <p:spPr>
          <a:xfrm>
            <a:off x="468360" y="4869000"/>
            <a:ext cx="388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Планирање и профилисање хоризонталног и земљишта под нагиб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83DD-82C7-4CCB-8686-84B79E96F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АШИНЕ ЗА САБИЈАЊЕ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абијање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 збијања минералних честица земљишта са циљем да се смањ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розност (истискивање ваздуха и вод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абијањем се обезбеђуј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требна чврстоћа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порност на деформиса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сивост у дужем пери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д сабијености земљишта – подлоге зависи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ек грађевинских објеката нискоградњ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исокоградњ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 наме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рад на великим површин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рад на ограниченим површин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рад на нагиб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ма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сабијање земљишта статичког деј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сабијање земљишта ударног деј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сабијање земљишта вибрационог деј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staticki%20vljak1"/>
          <p:cNvPicPr/>
          <p:nvPr/>
        </p:nvPicPr>
        <p:blipFill>
          <a:blip r:embed="rId1"/>
          <a:stretch/>
        </p:blipFill>
        <p:spPr>
          <a:xfrm>
            <a:off x="5076720" y="1700280"/>
            <a:ext cx="1505160" cy="1228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pneumatski%20valjak"/>
          <p:cNvPicPr/>
          <p:nvPr/>
        </p:nvPicPr>
        <p:blipFill>
          <a:blip r:embed="rId2"/>
          <a:stretch/>
        </p:blipFill>
        <p:spPr>
          <a:xfrm>
            <a:off x="5076720" y="3500280"/>
            <a:ext cx="1505160" cy="12477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3"/>
          <a:stretch/>
        </p:blipFill>
        <p:spPr>
          <a:xfrm>
            <a:off x="6948360" y="1628640"/>
            <a:ext cx="1798920" cy="1481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4"/>
          <a:stretch/>
        </p:blipFill>
        <p:spPr>
          <a:xfrm>
            <a:off x="6948360" y="4940280"/>
            <a:ext cx="1944720" cy="1601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"/>
          <p:cNvPicPr/>
          <p:nvPr/>
        </p:nvPicPr>
        <p:blipFill>
          <a:blip r:embed="rId5"/>
          <a:stretch/>
        </p:blipFill>
        <p:spPr>
          <a:xfrm>
            <a:off x="6948360" y="3271680"/>
            <a:ext cx="187164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0427-B43A-453E-97B4-D18E0E3D6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АШИНЕ ЗА ПРОИЗВОДЊУ, ТРАНСПОРТ И УГРАДЊУ БЕ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АШИНЕ ЗА ПРОИЗВОДЊУ И УГРАДЊУ АСФАЛТНОГ БЕТ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2050920" y="1773360"/>
            <a:ext cx="1828800" cy="2346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1476360" cy="3238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3924360" y="1341360"/>
            <a:ext cx="4967280" cy="2841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4"/>
          <a:stretch/>
        </p:blipFill>
        <p:spPr>
          <a:xfrm>
            <a:off x="3276720" y="4941720"/>
            <a:ext cx="2808000" cy="1659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5"/>
          <a:stretch/>
        </p:blipFill>
        <p:spPr>
          <a:xfrm>
            <a:off x="395280" y="4941720"/>
            <a:ext cx="2374920" cy="1611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6"/>
          <a:stretch/>
        </p:blipFill>
        <p:spPr>
          <a:xfrm>
            <a:off x="6443640" y="4941720"/>
            <a:ext cx="2340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5F6D-7D59-4FA1-A4CF-D9CF3A36F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ало истор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и са једном каш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 са чеоном кашиком (произвођач 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sto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tor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”, година 1877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гон - парна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71 машина испоручена фир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chester Ship Canal Comp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Ruston Proctor Steam Excavator  "/>
          <p:cNvPicPr/>
          <p:nvPr/>
        </p:nvPicPr>
        <p:blipFill>
          <a:blip r:embed="rId1"/>
          <a:stretch/>
        </p:blipFill>
        <p:spPr>
          <a:xfrm>
            <a:off x="1763640" y="1628640"/>
            <a:ext cx="55627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C2DA-8C59-40FF-B91F-AE66B8597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 са чеоном кашиком (1913. –Панамски кана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 са чеоном кашиком за подводни ископ (1915. –Панамски кана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1913_culebra_steam_shovels"/>
          <p:cNvPicPr/>
          <p:nvPr/>
        </p:nvPicPr>
        <p:blipFill>
          <a:blip r:embed="rId1"/>
          <a:stretch/>
        </p:blipFill>
        <p:spPr>
          <a:xfrm>
            <a:off x="2843280" y="907920"/>
            <a:ext cx="3381480" cy="2171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1915_dredge_culebra_cut"/>
          <p:cNvPicPr/>
          <p:nvPr/>
        </p:nvPicPr>
        <p:blipFill>
          <a:blip r:embed="rId2"/>
          <a:stretch/>
        </p:blipFill>
        <p:spPr>
          <a:xfrm>
            <a:off x="2843280" y="3573360"/>
            <a:ext cx="33814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532B-4F18-4B50-9104-C1D4FA64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 са дубинском кашиком (произвођач 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ede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”, година 1949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гон – дизел – мо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нос снаге до елемената захватног уређаја - ужет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LS98"/>
          <p:cNvPicPr/>
          <p:nvPr/>
        </p:nvPicPr>
        <p:blipFill>
          <a:blip r:embed="rId1"/>
          <a:stretch/>
        </p:blipFill>
        <p:spPr>
          <a:xfrm>
            <a:off x="2627280" y="1413000"/>
            <a:ext cx="396072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50F7-69BE-46BF-8CCF-0D8FAF35F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ОДЕН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а носив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ска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ла брз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ожена механизација за претова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ЦЕВН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јекономичнији вид транспорта флуи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ранспорт прашкастог и ситнозрнастог материјала на релативно кратким деоницама, уз велики учинак (транспорт цемента, песка, угљ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Хидраулични транспорт угља од ротора до депо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DSCF0044"/>
          <p:cNvPicPr/>
          <p:nvPr/>
        </p:nvPicPr>
        <p:blipFill>
          <a:blip r:embed="rId1"/>
          <a:stretch/>
        </p:blipFill>
        <p:spPr>
          <a:xfrm>
            <a:off x="1187280" y="4653000"/>
            <a:ext cx="2232360" cy="169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DSCF0043"/>
          <p:cNvPicPr/>
          <p:nvPr/>
        </p:nvPicPr>
        <p:blipFill>
          <a:blip r:embed="rId2"/>
          <a:stretch/>
        </p:blipFill>
        <p:spPr>
          <a:xfrm>
            <a:off x="3564000" y="4653000"/>
            <a:ext cx="2232000" cy="1693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DSCF0046"/>
          <p:cNvPicPr/>
          <p:nvPr/>
        </p:nvPicPr>
        <p:blipFill>
          <a:blip r:embed="rId3"/>
          <a:stretch/>
        </p:blipFill>
        <p:spPr>
          <a:xfrm>
            <a:off x="6084720" y="4653000"/>
            <a:ext cx="223236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EC8E-BEE8-47BF-8BF3-0512DB2C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и ведрича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 ведричар (крај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ве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копавање панамског канала 1885.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4" descr="Image:Dredging technique schematic.png">
            <a:hlinkClick r:id="rId1"/>
          </p:cNvPr>
          <p:cNvPicPr/>
          <p:nvPr/>
        </p:nvPicPr>
        <p:blipFill>
          <a:blip r:embed="rId2"/>
          <a:srcRect l="0" t="0" r="0" b="33958"/>
          <a:stretch/>
        </p:blipFill>
        <p:spPr>
          <a:xfrm>
            <a:off x="826920" y="1052640"/>
            <a:ext cx="2303640" cy="1868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Image:Dredging technique schematic.png">
            <a:hlinkClick r:id="rId3"/>
          </p:cNvPr>
          <p:cNvPicPr/>
          <p:nvPr/>
        </p:nvPicPr>
        <p:blipFill>
          <a:blip r:embed="rId4"/>
          <a:srcRect l="0" t="65815" r="0" b="0"/>
          <a:stretch/>
        </p:blipFill>
        <p:spPr>
          <a:xfrm>
            <a:off x="4211640" y="981000"/>
            <a:ext cx="4648320" cy="1943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1886_basobispo02"/>
          <p:cNvPicPr/>
          <p:nvPr/>
        </p:nvPicPr>
        <p:blipFill>
          <a:blip r:embed="rId5"/>
          <a:stretch/>
        </p:blipFill>
        <p:spPr>
          <a:xfrm>
            <a:off x="2771640" y="3357720"/>
            <a:ext cx="35816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3F0-3BB9-4CBE-8478-681D3BD7A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торни багер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атентна реш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1881. година                                                     1908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и роторни багер у експлоатацији (ПК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ergwitz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Немачка, 1917. год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Sl3"/>
          <p:cNvPicPr/>
          <p:nvPr/>
        </p:nvPicPr>
        <p:blipFill>
          <a:blip r:embed="rId1"/>
          <a:stretch/>
        </p:blipFill>
        <p:spPr>
          <a:xfrm>
            <a:off x="5076720" y="1052640"/>
            <a:ext cx="3457800" cy="2066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Sl2"/>
          <p:cNvPicPr/>
          <p:nvPr/>
        </p:nvPicPr>
        <p:blipFill>
          <a:blip r:embed="rId2"/>
          <a:srcRect l="0" t="0" r="952" b="0"/>
          <a:stretch/>
        </p:blipFill>
        <p:spPr>
          <a:xfrm>
            <a:off x="1042920" y="1268280"/>
            <a:ext cx="3371760" cy="1895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Sl1"/>
          <p:cNvPicPr/>
          <p:nvPr/>
        </p:nvPicPr>
        <p:blipFill>
          <a:blip r:embed="rId3"/>
          <a:stretch/>
        </p:blipFill>
        <p:spPr>
          <a:xfrm>
            <a:off x="2627280" y="3389400"/>
            <a:ext cx="37450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720F4-C47C-4F89-A108-5CED61CA7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ШИНСК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а брз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и учин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иска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зависност од временских усл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граничена величина тер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граничена могућност крет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ложена претоварна механ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 да буде једношински или двошинс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1622-D87A-4A49-B424-31D6F18CC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ДРУМСКИ ТРАНСПО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арактеристик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а брзина крет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елика маневарска способност и проход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ко прилагођавање условима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ака синхронизација рада у комплексној механизациј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гућност транспорта материјала од места утовара до места уградње без претова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сока ц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исока цена одржа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600" spc="-1" strike="noStrike">
                <a:solidFill>
                  <a:srgbClr val="000000"/>
                </a:solidFill>
                <a:latin typeface="Arial"/>
              </a:rPr>
              <a:t>Пример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утомобил, трактор, тегљач, самоистоварни камион (кипер), дампер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пецијална возила за транспорт одређене врсте материј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wow"/>
          <p:cNvPicPr/>
          <p:nvPr/>
        </p:nvPicPr>
        <p:blipFill>
          <a:blip r:embed="rId1"/>
          <a:stretch/>
        </p:blipFill>
        <p:spPr>
          <a:xfrm>
            <a:off x="826920" y="4005360"/>
            <a:ext cx="3024360" cy="2252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anitrucks"/>
          <p:cNvPicPr/>
          <p:nvPr/>
        </p:nvPicPr>
        <p:blipFill>
          <a:blip r:embed="rId2"/>
          <a:stretch/>
        </p:blipFill>
        <p:spPr>
          <a:xfrm>
            <a:off x="4572000" y="3933720"/>
            <a:ext cx="3095640" cy="2317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"/>
          <p:cNvSpPr/>
          <p:nvPr/>
        </p:nvSpPr>
        <p:spPr>
          <a:xfrm>
            <a:off x="1909080" y="630864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Тегљ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795640" y="6308640"/>
            <a:ext cx="72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Дамп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8F7C-3561-49E3-BEA2-FA9BA56C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АШИНЕ ЗА ИСКОП, ТРАНСПОРТ И САБИЈАЊЕ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Земљиш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вршински (горњи) слој земљине к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куп минералних честица између којих се налазе шупљине испуњене водом и ваздух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ископ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ископ, транспорт и равнање (планирање)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транспорт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сабијање (стабилизацију)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9264-0765-4380-B3E4-E283371BB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АШИНЕ ЗА ИСКОП ЗЕМЉИШ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Наме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: Ископ земљишта д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тегорије и краћи транспорт ископаног материј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до транспортног средства или депоније-одлагалиш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ласификациј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ашине за ископ земљишта на сув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а цикличним ра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багери (са чеоном, дубинском и повлачном кашиком и грабилицом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товарива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ceonakasika1"/>
          <p:cNvPicPr/>
          <p:nvPr/>
        </p:nvPicPr>
        <p:blipFill>
          <a:blip r:embed="rId1"/>
          <a:stretch/>
        </p:blipFill>
        <p:spPr>
          <a:xfrm>
            <a:off x="684360" y="3645000"/>
            <a:ext cx="2971800" cy="1847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BagDubKas_2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3780000" y="3645000"/>
            <a:ext cx="2447640" cy="1838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3"/>
          <a:stretch/>
        </p:blipFill>
        <p:spPr>
          <a:xfrm>
            <a:off x="6372360" y="3716280"/>
            <a:ext cx="2520720" cy="1763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039680" y="5661000"/>
            <a:ext cx="202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Багер са чеоном каш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3849480" y="5661000"/>
            <a:ext cx="225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Багер са дубинском каши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7308000" y="5661000"/>
            <a:ext cx="101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Утоварива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2991-731B-4E7A-90BF-36E980D50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ff00"/>
                </a:solidFill>
                <a:latin typeface="Arial"/>
              </a:rPr>
              <a:t>ОСНОВЕ ГРАЂЕВИНСКИХ И РУДАРСКИХ МАШ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Багери са дубинском каши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611280" y="3500280"/>
            <a:ext cx="2857320" cy="2857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2247840" cy="1571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3"/>
          <a:stretch/>
        </p:blipFill>
        <p:spPr>
          <a:xfrm>
            <a:off x="6084720" y="350028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rcRect l="16031" t="0" r="19923" b="0"/>
          <a:stretch/>
        </p:blipFill>
        <p:spPr>
          <a:xfrm>
            <a:off x="3924360" y="1197000"/>
            <a:ext cx="1439640" cy="1571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5"/>
          <a:stretch/>
        </p:blipFill>
        <p:spPr>
          <a:xfrm>
            <a:off x="4284720" y="2781360"/>
            <a:ext cx="1015920" cy="1295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6"/>
          <a:stretch/>
        </p:blipFill>
        <p:spPr>
          <a:xfrm>
            <a:off x="3924360" y="4292640"/>
            <a:ext cx="1905120" cy="2095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7"/>
          <a:stretch/>
        </p:blipFill>
        <p:spPr>
          <a:xfrm>
            <a:off x="6516720" y="1557360"/>
            <a:ext cx="19051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04:05:30Z</dcterms:created>
  <dc:creator> </dc:creator>
  <dc:description/>
  <dc:language>en-US</dc:language>
  <cp:lastModifiedBy>user</cp:lastModifiedBy>
  <dcterms:modified xsi:type="dcterms:W3CDTF">2025-06-29T19:01:34Z</dcterms:modified>
  <cp:revision>37</cp:revision>
  <dc:subject/>
  <dc:title>ГРАЂЕВИНСКЕ МАШИНЕ – УВОДНО ПРЕДАВАЊЕ</dc:title>
</cp:coreProperties>
</file>